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CB4B-672B-4EE9-8591-26394BCB7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A243-CC2A-4C13-842C-3FF4B73D0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F4D6-8A99-4A00-9103-76015B630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9CF8-697E-4931-8E44-143B4D3AD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EE6B6-A990-4B99-97F5-30E31BF05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D23DF-18D0-4092-BBBC-38838CE1B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21617-7308-4220-8647-4A22D530F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1EF5B-6A04-450B-8A24-AA01A2FAB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7A4D4-BF81-4FB6-B416-8D984782C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E4AF1-5BEA-4343-92D8-2F4D6D13A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2FC19-AD16-48CE-8C09-2F253FBD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DD8C-33E1-43D7-A069-CA6480DE1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96D2D-89BF-480D-BAC1-0E6DDA9E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61307-1618-4662-95C8-84C35802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C478B-AEA1-4C68-B9F2-07ECEA8A0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8D0C2-6491-41C8-97AC-15018287C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AC6FC-60AD-4775-B8E4-BD153FE77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F448-7EF9-4D13-B84E-FE1A1F2F3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F87A-4853-4486-8BCC-3E9A50ABA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B662-EAD1-41F4-BDD2-EB68D871C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59F5-60DD-47FE-8054-5A79EDC1A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4633-95F4-41AB-8038-787EEEBF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0E68-8502-42D6-A665-8080C7C2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9524-66E5-4348-82A0-06402D8F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7E4AC-4E07-4211-99BC-DE9601DD73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1F1AA-2344-4E6B-977F-479FF5CF22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free_graph_downloads/handygraph1.gif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Wednesday, February 18th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SP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e component form of a vector PQ with initial point (p</a:t>
            </a:r>
            <a:r>
              <a:rPr b="0" lang="en-US" sz="2800" spc="-1" strike="noStrike" baseline="-25000">
                <a:solidFill>
                  <a:srgbClr val="ccec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, p</a:t>
            </a:r>
            <a:r>
              <a:rPr b="0" lang="en-US" sz="2800" spc="-1" strike="noStrike" baseline="-25000">
                <a:solidFill>
                  <a:srgbClr val="ccec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) and terminal point (q</a:t>
            </a:r>
            <a:r>
              <a:rPr b="0" lang="en-US" sz="2800" spc="-1" strike="noStrike" baseline="-25000">
                <a:solidFill>
                  <a:srgbClr val="ccec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, q</a:t>
            </a:r>
            <a:r>
              <a:rPr b="0" lang="en-US" sz="2800" spc="-1" strike="noStrike" baseline="-25000">
                <a:solidFill>
                  <a:srgbClr val="ccec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) i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371600" y="15238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lt;q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q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equals &lt;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equal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A vector’s </a:t>
            </a:r>
            <a:r>
              <a:rPr b="0" lang="en-US" sz="4800" spc="-1" strike="noStrike" u="sng">
                <a:solidFill>
                  <a:srgbClr val="ccecff"/>
                </a:solidFill>
                <a:uFillTx/>
                <a:latin typeface="Arial"/>
              </a:rPr>
              <a:t>magnitude</a:t>
            </a: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 is its length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2952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The magnitude of a vector is denoted by </a:t>
            </a:r>
            <a:r>
              <a:rPr b="0" lang="en-US" sz="4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||v||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98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98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 magnitude of v is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||v|| =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which also equals 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5334120" y="2286000"/>
          <a:ext cx="304776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286000"/>
                    <a:ext cx="304776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3276720" y="3716280"/>
          <a:ext cx="2590560" cy="85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3716280"/>
                    <a:ext cx="259056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ccecff"/>
                </a:solidFill>
                <a:latin typeface="Arial"/>
              </a:rPr>
              <a:t>If </a:t>
            </a:r>
            <a:r>
              <a:rPr b="0" lang="en-US" sz="45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||v|| = 1, then this is called a unit vector</a:t>
            </a: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ind the component form and magnitude of PQ if P(3, -5) and   Q(-2, 7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ccecff"/>
                </a:solidFill>
                <a:latin typeface="Arial"/>
              </a:rPr>
              <a:t>Homework:</a:t>
            </a:r>
            <a:br>
              <a:rPr sz="7500"/>
            </a:br>
            <a:r>
              <a:rPr b="0" lang="en-US" sz="7500" spc="-1" strike="noStrike">
                <a:solidFill>
                  <a:srgbClr val="ccecff"/>
                </a:solidFill>
                <a:latin typeface="Arial"/>
              </a:rPr>
              <a:t>Page 453</a:t>
            </a:r>
            <a:br>
              <a:rPr sz="7500"/>
            </a:br>
            <a:r>
              <a:rPr b="0" lang="en-US" sz="7500" spc="-1" strike="noStrike">
                <a:solidFill>
                  <a:srgbClr val="ccecff"/>
                </a:solidFill>
                <a:latin typeface="Arial"/>
              </a:rPr>
              <a:t>#3-13</a:t>
            </a:r>
            <a:endParaRPr b="0" lang="en-US" sz="75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98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Get back tes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ccecff"/>
                </a:solidFill>
                <a:latin typeface="Arial"/>
              </a:rPr>
              <a:t>Lesson 6.3</a:t>
            </a:r>
            <a:br>
              <a:rPr sz="8500"/>
            </a:br>
            <a:r>
              <a:rPr b="0" lang="en-US" sz="8500" spc="-1" strike="noStrike">
                <a:solidFill>
                  <a:srgbClr val="ccecff"/>
                </a:solidFill>
                <a:latin typeface="Arial"/>
              </a:rPr>
              <a:t>part one</a:t>
            </a:r>
            <a:endParaRPr b="0" lang="en-US" sz="85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Vector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Quantities that possess two characteristics: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Direction and Magnitude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212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Vectors are usually visualized as a directed line segment or ray on a coordinate plane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ts direction goes from an initial point to a terminal poin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 vector is in “standard position” if its initial point is at the origi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98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33720" y="1219320"/>
            <a:ext cx="449244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2:52:43Z</dcterms:created>
  <dc:creator>jnewman</dc:creator>
  <dc:description/>
  <dc:language>en-US</dc:language>
  <cp:lastModifiedBy>abeason</cp:lastModifiedBy>
  <dcterms:modified xsi:type="dcterms:W3CDTF">2009-02-18T14:08:52Z</dcterms:modified>
  <cp:revision>5</cp:revision>
  <dc:subject/>
  <dc:title>Lesson 6.3 part one</dc:title>
</cp:coreProperties>
</file>